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798A-DE9B-41D9-800E-60F16F6E7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RL doesn’t just exist by itself.” Possible pear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he stage for the EL component, multiple intellig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guistic forms are semantic in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ry forms are stored as mental pictures, or physical sen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s the question, ‘As familiar as we are with nonlinguistic forms Are we using nonlinguistic forms as much we could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ole as coaches is to foster/promote these types of instructional tech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ive NLR tools are applicable in a wide variety of mediums: EL instruction, whole class instruction, multiple instruc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looking at the benefit of this  instructional technique through somewhat of an artificial lens.  Several inter-related factors combine to create excellent pedagogy.  We need to be thoughtful in ou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518-FCD7-47DF-A0C8-5E00BB71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75E-43BB-4BBE-AD96-75F513ED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5B58-5951-41D4-ABD7-7A4719A5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DAF-E8D6-4173-ABC6-0FD68E8E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2F7-4DB1-4985-A935-9E14E03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6D4-125E-440A-83AE-A5DB023B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EDE-BE49-404B-9FA0-E2ADA530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8CF-A8D2-48B4-A446-5FC699BA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CA2-F1C1-4214-8623-E0812006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A32-16E2-4D75-94D6-A635AFE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713-2AB7-4BE7-AFBC-9D9A6553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FC8-623D-4B44-8B46-4145312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0F4C-843D-46BA-9691-52DB363B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Adapted from</a:t>
            </a: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sto MT"/>
              </a:rPr>
              <a:t>Classroom Instruction tha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Will Pope, Ken Dandu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Instructional Coa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TRU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sto MT"/>
              </a:rPr>
              <a:t>March 13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68880" y="1600200"/>
            <a:ext cx="299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linguistic Representation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652840" y="1727280"/>
            <a:ext cx="3838320" cy="4267080"/>
            <a:chOff x="2652840" y="1727280"/>
            <a:chExt cx="3838320" cy="4267080"/>
          </a:xfrm>
        </p:grpSpPr>
        <p:sp>
          <p:nvSpPr>
            <p:cNvPr id="53" name="_s3130"/>
            <p:cNvSpPr/>
            <p:nvPr/>
          </p:nvSpPr>
          <p:spPr>
            <a:xfrm flipH="1" flipV="1">
              <a:off x="364788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00"/>
            <p:cNvSpPr/>
            <p:nvPr/>
          </p:nvSpPr>
          <p:spPr>
            <a:xfrm>
              <a:off x="265284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129"/>
            <p:cNvSpPr/>
            <p:nvPr/>
          </p:nvSpPr>
          <p:spPr>
            <a:xfrm flipH="1">
              <a:off x="364788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98"/>
            <p:cNvSpPr/>
            <p:nvPr/>
          </p:nvSpPr>
          <p:spPr>
            <a:xfrm>
              <a:off x="265284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128"/>
            <p:cNvSpPr/>
            <p:nvPr/>
          </p:nvSpPr>
          <p:spPr>
            <a:xfrm>
              <a:off x="4572000" y="439272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5"/>
            <p:cNvSpPr/>
            <p:nvPr/>
          </p:nvSpPr>
          <p:spPr>
            <a:xfrm>
              <a:off x="4038480" y="49276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27"/>
            <p:cNvSpPr/>
            <p:nvPr/>
          </p:nvSpPr>
          <p:spPr>
            <a:xfrm>
              <a:off x="5032440" y="41274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116"/>
            <p:cNvSpPr/>
            <p:nvPr/>
          </p:nvSpPr>
          <p:spPr>
            <a:xfrm>
              <a:off x="5424480" y="41274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126"/>
            <p:cNvSpPr/>
            <p:nvPr/>
          </p:nvSpPr>
          <p:spPr>
            <a:xfrm flipV="1">
              <a:off x="5032440" y="332712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083"/>
            <p:cNvSpPr/>
            <p:nvPr/>
          </p:nvSpPr>
          <p:spPr>
            <a:xfrm>
              <a:off x="5424480" y="2527200"/>
              <a:ext cx="106668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125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081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080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is stored two wa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nguistic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ery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heory has been called “dual-cod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see Paivio, 1969, 1971, 19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Idea continu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we use both systems of representation -- linguistic and non-linguistic -- the better we are able to recall knowledge.” (pg 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earch on N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 date and 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Stud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ile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1989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lingui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 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 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 6,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 38,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 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ls of Wis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just seems so perfect for EL and SEL instru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andurand &amp; Pope,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Doesn’t Tell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/how often do you have to do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of diff ap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52:49Z</dcterms:created>
  <dc:creator>willard.pope</dc:creator>
  <dc:description/>
  <dc:language>en-US</dc:language>
  <cp:lastModifiedBy>Kenneth Dandurand</cp:lastModifiedBy>
  <dcterms:modified xsi:type="dcterms:W3CDTF">2009-03-07T00:21:04Z</dcterms:modified>
  <cp:revision>8</cp:revision>
  <dc:subject/>
  <dc:title>Nonlinguistic Representations</dc:title>
</cp:coreProperties>
</file>